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jpeg" ContentType="image/jpeg"/>
  <Override PartName="/ppt/media/image5.png" ContentType="image/png"/>
  <Override PartName="/ppt/media/Pig.wav" ContentType="audio/x-wav"/>
  <Override PartName="/ppt/media/image11.wmf" ContentType="image/x-wmf"/>
  <Override PartName="/ppt/media/image7.png" ContentType="image/png"/>
  <Override PartName="/ppt/media/image15.wmf" ContentType="image/x-wmf"/>
  <Override PartName="/ppt/media/image1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7ECC-4318-433A-9545-06613B191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2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5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78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1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4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87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0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3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296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299" name="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2" name="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0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40480" y="304740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6720" y="3762360"/>
            <a:ext cx="1671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0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3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26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29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2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5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38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1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4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47" name="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0" name="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58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65200" y="3762360"/>
            <a:ext cx="187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95920" y="3047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66" name="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69" name="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0" name="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4" name="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5" name="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79" name="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0" name="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4" name="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5" name="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7" name="" descr="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89" name="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0" name="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4" name="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98" name="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5780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3" name=""/>
          <p:cNvSpPr/>
          <p:nvPr/>
        </p:nvSpPr>
        <p:spPr>
          <a:xfrm>
            <a:off x="685800" y="13716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1617840" y="5427720"/>
            <a:ext cx="2433600" cy="1271520"/>
          </a:xfrm>
          <a:prstGeom prst="wedgeEllipseCallout">
            <a:avLst>
              <a:gd name="adj1" fmla="val 71263"/>
              <a:gd name="adj2" fmla="val -1504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08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09" name="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4" name="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0" name="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2" name="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5" name="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38" name="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4" name="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4" name="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0" b="9848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1" name="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6" name="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347560" y="4249800"/>
            <a:ext cx="6704280" cy="2656800"/>
            <a:chOff x="2347560" y="4249800"/>
            <a:chExt cx="6704280" cy="2656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83360" y="424980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50880" y="462924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03160" y="473724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36560" y="4489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0840" y="526572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3800" y="501012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27640" y="482436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07080" y="504180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547040" y="508464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9640" y="519120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7600" y="543240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3280" y="635940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30520" y="486864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0" name=""/>
            <p:cNvSpPr/>
            <p:nvPr/>
          </p:nvSpPr>
          <p:spPr>
            <a:xfrm>
              <a:off x="3706920" y="587232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3" name="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400" y="1260000"/>
            <a:ext cx="8002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2" name="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3"/>
          <a:srcRect l="6750" t="19504" r="2250" b="24000"/>
          <a:stretch/>
        </p:blipFill>
        <p:spPr>
          <a:xfrm>
            <a:off x="5788080" y="1679400"/>
            <a:ext cx="3259080" cy="151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128520" y="6324480"/>
            <a:ext cx="2330640" cy="531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7390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rcRect l="13500" t="0" r="0" b="10848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1" name="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5" name="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1" name="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5" name="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77080" y="2237400"/>
            <a:ext cx="1453320" cy="429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03360" y="4958280"/>
            <a:ext cx="1422720" cy="429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62360" y="4156560"/>
            <a:ext cx="1997280" cy="4291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72080" y="3571920"/>
            <a:ext cx="579600" cy="5792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92080" y="4371120"/>
            <a:ext cx="1997280" cy="4291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10400" y="4148640"/>
            <a:ext cx="1996920" cy="4291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7" name="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69040" y="5758920"/>
            <a:ext cx="7043040" cy="947520"/>
            <a:chOff x="869040" y="5758920"/>
            <a:chExt cx="7043040" cy="947520"/>
          </a:xfrm>
        </p:grpSpPr>
        <p:sp>
          <p:nvSpPr>
            <p:cNvPr id="262" name=""/>
            <p:cNvSpPr/>
            <p:nvPr/>
          </p:nvSpPr>
          <p:spPr>
            <a:xfrm>
              <a:off x="8690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04200" y="914400"/>
            <a:ext cx="1454040" cy="2057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12-21T05:51:06Z</cp:lastPrinted>
  <dcterms:modified xsi:type="dcterms:W3CDTF">2008-11-07T15:00:53Z</dcterms:modified>
  <cp:revision>68</cp:revision>
  <dc:subject/>
  <dc:title> Cellular Respiration   Oxidation of Pyruvate   Krebs Cycle</dc:title>
</cp:coreProperties>
</file>